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A0F3-A2E2-4D08-A05C-D93BF62350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6877-174B-4959-BA49-C6CE946F449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764A-7533-473C-8F2C-C1DAB200B70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2B8-931F-4981-90E1-D7EB96A1DD2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6398-A788-42DB-A2FB-365E98D57BB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610C-B47C-4588-A970-C64448B0F33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01D9-A5A1-416D-8F09-C4D9C01D6FF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250D-EEC3-45C0-BD35-CFBF8BDB4AF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4EB6-50FA-42FF-9A2C-8E0CCE903DB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50E8-D747-4E84-B514-6602B5E4A3C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BC91-4279-49CF-9DF3-9713C2CD612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20DA-8372-41CA-9CE6-0757C7EA932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14E7-E7E9-4266-8D74-77AEC9F7F12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59BE-05DC-4C8C-A22F-3FBDCEC005E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44D6-407D-4F25-925A-688D5D28EE8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B534-55C2-4D2A-9146-184BF7973EA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103C-1FB0-4CFB-A889-F440AAEA24B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A34C-51C5-4EB0-ADD4-0DCC61D8858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2DB5-2B0D-4102-98F7-FF1C05ACCEB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E1D5-6780-439C-9B2F-4CF40193D29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2907-320A-4E71-BEBD-F276D121290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4648-FA62-42C4-BF41-C2E1B453830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21B7-9990-49C3-B6EE-1EE550F5780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FB4B-AA50-4867-B3F0-8D782ED48F1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DFE7-0AA7-4731-8FD2-DD931679856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8389-1B87-487E-A92B-7713EAF7F70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D778-16E1-4718-B951-4AA42E04B4B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9CAC-9BD1-457E-9869-5E140FC9514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B82F-79FA-4C28-9594-CEFD78AA132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65C-86D2-4BD8-A7F5-39E0797C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CD4-74EA-429C-A752-03B19DB1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F51-866F-458A-A898-0F9DC50D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8C5-336D-47C0-ACD1-384317D8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8C8DE-D559-4645-B246-C803006E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2B38C-FAD6-47AA-BB67-FE58802A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68C34-7159-4887-9478-E22AFE53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32DA8-45FE-4C51-9D23-049FB848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CB755-3600-4EBC-B623-D77A51DE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05174-CA1E-4200-910C-B0A7D548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0319B-C6DF-42C0-B1EA-137380EB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48F-62B1-4AF3-B67D-E3D98617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28DFA-66E8-41BA-B6AE-F90EE622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C2AD8-B1D0-4DA5-AE26-38550E74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4479-F2C2-48C2-AF71-778F522B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BEFFC-76FA-4CBB-B89D-451B6539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F7FF0-6E6D-4577-9C87-05DBA5F0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981-6890-4C55-BD0D-64E6EAD8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365-A8D9-47F6-AA24-32D6359C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788-CC99-4A5B-9442-16761951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363-59CD-4443-BFE9-8C257B41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816-A8D6-47C2-8BEA-69E308AB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BAB-5376-4B95-87CB-5C37C23A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EE3-5F90-4504-8E75-B151D09C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AC40-DFDD-4BEE-B13B-F3EF6B91DE8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4F1E-1D01-4406-B64D-017544E773C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48578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Triage….</a:t>
            </a:r>
            <a:br>
              <a:rPr sz="5400"/>
            </a:b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: </a:t>
            </a:r>
            <a:br>
              <a:rPr sz="54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cs typeface="Andalus"/>
              </a:rPr>
              <a:t>د.خا لد الحكيم</a:t>
            </a:r>
            <a:br>
              <a:rPr sz="3600"/>
            </a:br>
            <a:r>
              <a:rPr b="0" i="1" lang="en-US" sz="36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Master</a:t>
            </a:r>
            <a:r>
              <a:rPr b="0" i="1" lang="en-US" sz="3600" spc="-1" strike="noStrike">
                <a:solidFill>
                  <a:srgbClr val="e3e3ff"/>
                </a:solidFill>
                <a:latin typeface="Arial"/>
              </a:rPr>
              <a:t> EMERGENCY  MEDICINE</a:t>
            </a:r>
            <a:br>
              <a:rPr sz="3600"/>
            </a:b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Master</a:t>
            </a:r>
            <a:r>
              <a:rPr b="0" i="1" lang="en-US" sz="3600" spc="-1" strike="noStrike">
                <a:solidFill>
                  <a:srgbClr val="e3e3ff"/>
                </a:solidFill>
                <a:latin typeface="Arial"/>
              </a:rPr>
              <a:t> I   C    U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Aharoni"/>
              </a:rPr>
              <a:t>dr_haled@hotmail.com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Aharoni"/>
              </a:rPr>
              <a:t> </a:t>
            </a:r>
            <a:br>
              <a:rPr sz="54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0000ff"/>
                </a:solidFill>
                <a:uFillTx/>
                <a:latin typeface="Arial"/>
              </a:rPr>
              <a:t>نظام الفرز الطبي الإسعا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Italian Triage   GFT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ar-SA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التـــصـــنـيــــ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ar-SA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الــــرمـــز الـلــونـــ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ar-SA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وقـــت الإنـــتـــظا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ergency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sso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gante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iallo</a:t>
                      </a: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mi Urgent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erde</a:t>
                      </a:r>
                      <a:r>
                        <a:rPr b="0" i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n Urgent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anco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AutoShape 32"/>
          <p:cNvSpPr/>
          <p:nvPr/>
        </p:nvSpPr>
        <p:spPr>
          <a:xfrm>
            <a:off x="7236000" y="189000"/>
            <a:ext cx="1908000" cy="1185840"/>
          </a:xfrm>
          <a:prstGeom prst="cloudCallout">
            <a:avLst>
              <a:gd name="adj1" fmla="val -63976"/>
              <a:gd name="adj2" fmla="val 6031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مـــراحـــــل الــــتـــريــاج  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– التــــقــيــيــم المـــبــــدئـــي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-  الــقـــصـــة الـــمـــــرضـــيـــ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– الـــتـــقـــــيـــيــــم الـــســــريــــر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– تــأكــيــد الـــشــــكــوى الـــرئــيــســــيـ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– إعــــطــــاء الــــرمـــــز الـــلـــــونــــــــ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– إعـــــــــــــــادة الـــــــتــــــقــــــيــــيـــــــم 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7380360" y="260280"/>
            <a:ext cx="1706400" cy="1224000"/>
          </a:xfrm>
          <a:prstGeom prst="irregularSeal2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Water lilies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 – الـــتــــقـــيـيــم الــمـبــدئــــــي  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الـــمــظــــهـــر الـــــــعــــا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الـــمـــجـــــرى الــــهـــــــوائــــــــــي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الــــــــتـــنــــفــــــــــــــس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الـــــنــبـــض والـــــــدوران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نــقــص الـــوعـــي أو إضــطــرابـــات عــصــبـيـــ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68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68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 – الــــقـــصــــة الــــمـــرضــــيــــة  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الــعـــرض الــرئــيــســــي أو الـــشــكــوى الـرئــيــســيـ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عــــــــراض / الأمور المرافقة /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مــــور الظــــاهـــــرة حــــالــــــيــــا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ــــقـــــيــيـــم الألـــــــــــــــم ( مكان – مدة – شكل ....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ـــفـــاصـــيـــل الــــــــــقـــــصــــة  ( إن أمكن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 – الـــتــقــيــيــــم الـــــســــــريــري   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فــحـص ســريــع لــلــمــريــــض / سريع وبحكمة وانتباه 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تـــقـــيــيــــم الـــعــــلامــــــات الــــحـــيـــويــــة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- الضغط الشري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- الـــــنـــبـــــــــض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- عــــدد مـــرات الــــتنــــفــــس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- الــــحــــــــــــرار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- الـــضـــغــــط الــقـــســــمــي للأكـــــســـجــيــن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- مـــقـــيـــاس غــــلاســــــكــــو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 – تــأكــــيــد الــشــكـوى الــرئـيـســـيـة 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684360" y="1557360"/>
            <a:ext cx="7705440" cy="4680000"/>
          </a:xfrm>
          <a:prstGeom prst="cloudCallout">
            <a:avLst>
              <a:gd name="adj1" fmla="val -26328"/>
              <a:gd name="adj2" fmla="val 3124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411280" y="2565360"/>
            <a:ext cx="56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Arial"/>
              </a:rPr>
              <a:t>يجب تأكيد وجود الشكوى الرئيسية التي يعاني منها المريض ..... وهل ازدادت سوء أم تحسنت ؟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Arial"/>
              </a:rPr>
              <a:t>ثم ربط الأمور ببعضها البعض وتوقع الحالة المرضية حسب الموجودات السريرية وبكل </a:t>
            </a:r>
            <a:r>
              <a:rPr b="1" i="1" lang="ar-SA" sz="2400" spc="-1" strike="noStrike">
                <a:solidFill>
                  <a:srgbClr val="ff0000"/>
                </a:solidFill>
                <a:latin typeface="Arial"/>
              </a:rPr>
              <a:t>حكمة ومعرف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Arial"/>
              </a:rPr>
              <a:t>أو وضع التشخيص التفريقي لتجنب الوقوع بأخطاء قاتلة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 – إعـــــطــــاء الـــــرمــــز الــلـــونــــي 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ناء على الفحص والعلامات الحيوية والشكوى الرئيسية يتم إعطاء الرمز اللوني 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ar-SA" sz="3200" spc="-1" strike="noStrike">
                <a:solidFill>
                  <a:srgbClr val="ff0000"/>
                </a:solidFill>
                <a:latin typeface="Arial"/>
              </a:rPr>
              <a:t>أحـــمــــــر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Ros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00"/>
                </a:solidFill>
                <a:latin typeface="Arial"/>
              </a:rPr>
              <a:t>      أصــفــــــر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Giallo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ar-SA" sz="3200" spc="-1" strike="noStrike">
                <a:solidFill>
                  <a:srgbClr val="00ff00"/>
                </a:solidFill>
                <a:latin typeface="Arial"/>
              </a:rPr>
              <a:t>أخـــضــــر         </a:t>
            </a: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Ve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أبــيـــــــض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ian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8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 – إعـــــــادة الــــتـــقـــيــيــــــم   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تم إعادة تقييم المريض حسب الوقت المناسب وحال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مريض السرير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ويتم إعادة تقييم الرمز اللوني وتعديله عند الضرورة , فق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تحول المريض من الرمز </a:t>
            </a:r>
            <a:r>
              <a:rPr b="0" i="1" lang="ar-SA" sz="3200" spc="-1" strike="noStrike">
                <a:solidFill>
                  <a:srgbClr val="00ff00"/>
                </a:solidFill>
                <a:latin typeface="Arial"/>
              </a:rPr>
              <a:t>الأخضر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إلى</a:t>
            </a:r>
            <a:r>
              <a:rPr b="0" i="1" lang="ar-SA" sz="3200" spc="-1" strike="noStrike">
                <a:solidFill>
                  <a:srgbClr val="ff0000"/>
                </a:solidFill>
                <a:latin typeface="Arial"/>
              </a:rPr>
              <a:t> الأحمر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حسب تطو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شكوى وحالة المريض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619280" y="4149720"/>
            <a:ext cx="7200720" cy="2305080"/>
          </a:xfrm>
          <a:prstGeom prst="cloudCallout">
            <a:avLst>
              <a:gd name="adj1" fmla="val -38291"/>
              <a:gd name="adj2" fmla="val 3801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ثلا قد يأتي المريض واعيا إلى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قسم الإسعاف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 ثم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ربع ساعة يفقد وعيه بسبب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زف داخلي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دخوله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صدمة ، هنا يتم التحويل من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مز لآخر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لـــــــرمـــــــــــز الأحــــــــــمــــــر    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تـــوقــف الـــتــنــفـــــس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تــوقـــف الـــقــلــــــب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غياب الوعي بشكل مفاجئ سواء بسبب رضي أو 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الجروح النافذة في الصدر- البطن – الرقبة – الحوض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الرضوض العديدة مع وجود علامة أو أكثر مهددة للحيا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صداع حاد مترافق مع علامات عصبية عامة أو بؤر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قصور تنفسي حاد مع زرقة وعدد مرات تنفس خطي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بتر لأحد الأطراف من الناحية القريبة للجسد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حرق درجة ثالثة يشمل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% أو أكثر للبالغ و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% للأطفا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نزف فعال مع تأثير ظاهر على العلامات الحيوية /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ضغط – نبض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كســـــور متعددة ومفتوح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Triage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هو أسلوب علمي متطور يقوم على مبدأ تقييم حالة المرضى وفق معايير معينة ، لتحديد أولويات الإسعاف وأولويات تقديم العلا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إن اختصار هذه النتائج برمز لوني يسهل على الطبيب التوجه إلى المريض الأهم والأكثر خطورة ، والأكثر حاجة للعلا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ff"/>
                </a:solidFill>
                <a:latin typeface="Arial"/>
              </a:rPr>
              <a:t>هذا الترميز اللوني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أو الرقمي سوف يؤدي إلى تنظيم عمل الإسعاف ، وأخذ كل مريض لحقه العلاجي دون أن يؤثر على باقي المرضى 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ff00"/>
                </a:solidFill>
                <a:uFillTx/>
                <a:latin typeface="Arial"/>
              </a:rPr>
              <a:t>الـــــــرمـــــــز الأصـــــــــفــــــر    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ألم صدري يشك بمصدره القلبي ، حديث الظهور ، دون إضطراب بالعلامات الحيو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ألم صدري غير وصفي لكن مترافق مع زلة و/أو شحوب و/ أو تعرق ، عفوي أو بعد رض عند مريض سكري أو قلب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ألم هام بالبطن ، عفوي أو عقب رض ، لكن دون وجود علامات مهددة للحياة مع علامات معاناة جهاز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غشي حالي أو سبق حدوثه مترافق مع نظم قلبي بطيء أو سريع ظاهر في النبض الكعبر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كسر مفتوح في أحد الأطراف دون أن يترافق مع نزف غزير مهدد للحيا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كسر غير مفتوح لأكثر من عظم ، أو كسر مفتت لايتضمن اليدين أو القدم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768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768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0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ff00"/>
                </a:solidFill>
                <a:uFillTx/>
                <a:latin typeface="Arial"/>
              </a:rPr>
              <a:t>تابع الــرمــز الأصـــفــــــر 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جرح واسع متهتك مع نزف فعا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رض صدري أو بطني مغل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مريض سرطان في مراحله النهائية أو يعاني من آلام شديدة أو من دنف مع تقدم في السن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تغوط زفتي حال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نفث دم حال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رعاف شديد حال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إضطراب بالوعي مع أعراض عصبية أخرى دون وجود صداع شديد .... غلاسكو &gt;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صداع شديد دون سوابق ودون علامات عصبية ظاهر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حرارة مع علامات إلتهاب سحايا وحدوث تخليط أو إضطراب بالوع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قصور تنفسي دون علامات مهددة للحيا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3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5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7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00ff00"/>
                </a:solidFill>
                <a:uFillTx/>
                <a:latin typeface="Arial"/>
              </a:rPr>
              <a:t>الـــــــرمــــــز الأخــــــــضــــر   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إصابة طرف أو أكثر بالرض دون وجود كسر مفتوح أو جرح واسع أو نزف أو ورم دمو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إصابة الجمجمة برض لكن دون وجود فترة غياب عن الوعي أو علامات عصبية أو كسر غائر أو جرح ناف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رض على البطن أو الصدر دون علامات مرافق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ألم بطني ماغص لكنه خفيف دون وجود أقياء أو شحوب أو تعرق غزير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ترفع حروري &gt;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 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ألم صدري غير وصفي غير مترافق مع أعراض أخر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00ff00"/>
                </a:solidFill>
                <a:uFillTx/>
                <a:latin typeface="Arial"/>
              </a:rPr>
              <a:t>تابع الــــرمــــز الأخــــضـــــر   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شكل من أشكال الرعاف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جسم أجنبي في القرنية غير ناف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صداع دون أي أعراض أو علامات مرافقة مع تصرفات إعتياد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نفث دم متوقف حالياً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تغوط زفتي غير حالي عند مريض غير عرض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دوار فقط دون تدهور في الوعي ودون صداع ودون علامات عصبية مرافق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ffff"/>
                </a:solidFill>
                <a:uFillTx/>
                <a:latin typeface="Arial"/>
              </a:rPr>
              <a:t>الـــــــرمـــــــز الأبــــيـــــــــــــــــض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جرح صغير سطح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حرارة خفيفة منذ عدة أيا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ألم بالبلعوم أو الحنجرة عند البلع خاصة منذ عدة أيا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ألم في أحد الأطراف ، رضي أوغير رضي ، منذ م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إلتهاب ملتحمة – إلتهاب أذن – حموضة معدة 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إلتهاب جلدي مزم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كشط سطحي للجلد غير واس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لدغ حشرات منذ &gt;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ساعات ومكان اللدغ غير ظاه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حس خفقان دون أي عرض آخر ودون إضطراب في النبض أو الضغط الشريان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هــبــوط وز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Sunset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_____________1"/>
          <p:cNvPicPr/>
          <p:nvPr/>
        </p:nvPicPr>
        <p:blipFill>
          <a:blip r:embed="rId1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_____________2"/>
          <p:cNvPicPr/>
          <p:nvPr/>
        </p:nvPicPr>
        <p:blipFill>
          <a:blip r:embed="rId1"/>
          <a:stretch/>
        </p:blipFill>
        <p:spPr>
          <a:xfrm>
            <a:off x="0" y="0"/>
            <a:ext cx="9183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#2105573"/>
          <p:cNvPicPr/>
          <p:nvPr/>
        </p:nvPicPr>
        <p:blipFill>
          <a:blip r:embed="rId1"/>
          <a:stretch/>
        </p:blipFill>
        <p:spPr>
          <a:xfrm>
            <a:off x="-900000" y="-67464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/>
          <p:cNvSpPr/>
          <p:nvPr/>
        </p:nvSpPr>
        <p:spPr>
          <a:xfrm>
            <a:off x="5148360" y="5013360"/>
            <a:ext cx="3240000" cy="1778040"/>
          </a:xfrm>
          <a:prstGeom prst="irregularSeal1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Triage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…..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هي في الأصل كلمة مشتقة من الكلمة الفرنسية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ri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وتعني  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ــــفـــــرز  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، وتستخدم كمصطلح في البري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يوم أصبحت تعبر عن نظام وطريقة لفرز المرضى في قسم الطوارئ كلٌ حسب شدة حالته المرضية ، وشدة حاجته للعلاج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الفرز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( الترياج ) ممكن أن يكون </a:t>
            </a:r>
            <a:r>
              <a:rPr b="0" i="1" lang="ar-SA" sz="3200" spc="-1" strike="noStrike" u="sng">
                <a:solidFill>
                  <a:srgbClr val="00ffcc"/>
                </a:solidFill>
                <a:uFillTx/>
                <a:latin typeface="Arial"/>
              </a:rPr>
              <a:t>ضمن المشفى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ar-SA" sz="2400" spc="-1" strike="noStrike">
                <a:solidFill>
                  <a:srgbClr val="ffffff"/>
                </a:solidFill>
                <a:latin typeface="Arial"/>
              </a:rPr>
              <a:t>في صالة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Arial"/>
              </a:rPr>
              <a:t>الإنتظار أو قاعة الإسعاف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– وقد يكون </a:t>
            </a:r>
            <a:r>
              <a:rPr b="0" i="1" lang="ar-SA" sz="3200" spc="-1" strike="noStrike" u="sng">
                <a:solidFill>
                  <a:srgbClr val="00ffcc"/>
                </a:solidFill>
                <a:uFillTx/>
                <a:latin typeface="Arial"/>
              </a:rPr>
              <a:t>خارج المشفى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ar-SA" sz="2400" spc="-1" strike="noStrike">
                <a:solidFill>
                  <a:srgbClr val="ffffff"/>
                </a:solidFill>
                <a:latin typeface="Arial"/>
              </a:rPr>
              <a:t>في الميدان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Arial"/>
              </a:rPr>
              <a:t>كالطريق أو المطعم ، أو في حالة</a:t>
            </a:r>
            <a:r>
              <a:rPr b="0" i="1" lang="ar-SA" sz="2400" spc="-1" strike="noStrike">
                <a:solidFill>
                  <a:srgbClr val="ff0000"/>
                </a:solidFill>
                <a:latin typeface="Arial"/>
              </a:rPr>
              <a:t> الكوارث</a:t>
            </a:r>
            <a:r>
              <a:rPr b="0" i="1" lang="ar-SA" sz="2400" spc="-1" strike="noStrike">
                <a:solidFill>
                  <a:srgbClr val="ffffff"/>
                </a:solidFill>
                <a:latin typeface="Arial"/>
              </a:rPr>
              <a:t> ” زلزال –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Arial"/>
              </a:rPr>
              <a:t>حادث قطار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ar-SA" sz="2400" spc="-1" strike="noStrike">
                <a:solidFill>
                  <a:srgbClr val="ffffff"/>
                </a:solidFill>
                <a:latin typeface="Arial"/>
              </a:rPr>
              <a:t>إنفجار 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ff0000"/>
                </a:solidFill>
                <a:latin typeface="Arial"/>
              </a:rPr>
              <a:t>الخطوط العريضة للتــــريـــاج .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جب أن يتواجد نظام الفرز الطبي داخل كل قسم إسعا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ومع قبول المريض الإسعافي تبدأ عملية الترياج – الفرز -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وهنا يتم التقييم وفق آلية معينة وحسب معايير خاصة تسمح بإمكانية التدخل  حسب الأولوية 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هذه العملية تتم عادة من قبل سلك من الممرضين المختصين والمعدّين لهذا الغرض ، ويعملون تحت إشراف رئيس القسم وفق برنامج أعده له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ff0000"/>
                </a:solidFill>
                <a:latin typeface="Arial"/>
              </a:rPr>
              <a:t>الـــتـــريــــــــاج وشـــروطـــه 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الترياج ضروري وإجباري لكل قسم إسعاف يزيد عدد قبولاته عن </a:t>
            </a: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25000</a:t>
            </a: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 قبول في السن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يجب توفير الإمكانات اللازمة من قبل الجهات الصحية المسؤو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الممرضين المسؤولين يتم تدريبهم على الأقل لمدة ستة أشهر في أقسام الإسعاف والعنا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يتم إستعمال جداول خاصة مقبولة وموافق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المهمة الأساسية هي أخذ الأعراض والعلامات والقياسات الحيوية </a:t>
            </a:r>
            <a:r>
              <a:rPr b="0" i="1" lang="ar-SA" sz="2800" spc="-1" strike="noStrike">
                <a:solidFill>
                  <a:srgbClr val="00ff00"/>
                </a:solidFill>
                <a:latin typeface="Arial"/>
              </a:rPr>
              <a:t>وإعطاء الرمز اللوني</a:t>
            </a: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يجب إحترام الأمور الشخصية للمرض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يتم إعلام المنتظرين بالوقت والتفاصيل التي تهم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أنــظــمــة العــالــمـيـة للــتريــــاج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...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ian           CT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SY" sz="3200" spc="-1" strike="noStrike">
                <a:solidFill>
                  <a:srgbClr val="ffffff"/>
                </a:solidFill>
                <a:latin typeface="Arial"/>
              </a:rPr>
              <a:t>  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tralian          A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ar-SY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lisian            M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ar-SY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alian                GF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ar-SY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anada Triage  CTAS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 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0200"/>
          <a:ext cx="8229600" cy="4280040"/>
        </p:xfrm>
        <a:graphic>
          <a:graphicData uri="http://schemas.openxmlformats.org/drawingml/2006/table">
            <a:tbl>
              <a:tblPr/>
              <a:tblGrid>
                <a:gridCol w="2746440"/>
                <a:gridCol w="1800000"/>
                <a:gridCol w="1513080"/>
                <a:gridCol w="2170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ـــتـصـنــيــ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وقــت الإنـتـظـا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ــمــثـالـيـ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قبولين في المشف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animasione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ediat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ergency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-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gency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-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mi urgent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AutoNum type="arabicPlain" startAt="6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-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n Urgent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Arial"/>
                        <a:buAutoNum type="arabicPlain" startAt="12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-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Australian Triage  ATS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 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3322800"/>
                <a:gridCol w="2304720"/>
                <a:gridCol w="2602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لـــتـــصــنــيــــــــ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لـــلـــــــو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وقــت الإنــتــظـــا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-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animasione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ar-S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أحـــــمـــ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edi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-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ergency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ar-SA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برتـــقـــالـــ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gency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أصـــــفــــــــ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mi Urgent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أخـــــــضــــــ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n Urgent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 بــنــفــســـــجــ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Englesian Triage  MTS</a:t>
            </a:r>
            <a:r>
              <a:rPr b="1" i="1" lang="en-US" sz="4400" spc="-1" strike="noStrike" u="sng">
                <a:solidFill>
                  <a:srgbClr val="e3e3ff"/>
                </a:solidFill>
                <a:uFillTx/>
                <a:latin typeface="Arial"/>
              </a:rPr>
              <a:t>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4360" y="1341360"/>
          <a:ext cx="8229600" cy="4496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ar-SA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الـــــتـــــصـــنيـــ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ar-SA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الــــــلـــــــــــو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ar-SA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وقــــت الإنـــتـــظــا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midiate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أحــــــــمــــــ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y Urg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ar-SA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بــرتــــقـــــالــ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gente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ar-S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صـــــــفـــــــ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ndard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أخـــــضـــــــ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n Urgent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1" i="1" lang="ar-S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أزر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AutoShape 42"/>
          <p:cNvSpPr/>
          <p:nvPr/>
        </p:nvSpPr>
        <p:spPr>
          <a:xfrm>
            <a:off x="5003640" y="5950080"/>
            <a:ext cx="3168720" cy="825480"/>
          </a:xfrm>
          <a:prstGeom prst="cloudCallout">
            <a:avLst>
              <a:gd name="adj1" fmla="val -449"/>
              <a:gd name="adj2" fmla="val 6480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دم بــــار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7:16:04Z</dcterms:created>
  <dc:creator>  Dr.Nedal Issa</dc:creator>
  <dc:description/>
  <dc:language>en-US</dc:language>
  <cp:lastModifiedBy>ALI SAHIUNY</cp:lastModifiedBy>
  <dcterms:modified xsi:type="dcterms:W3CDTF">2019-02-23T21:54:32Z</dcterms:modified>
  <cp:revision>8</cp:revision>
  <dc:subject/>
  <dc:title>Triage….</dc:title>
</cp:coreProperties>
</file>